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13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9EA-D035-4785-9BF4-32D6C02E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B13-FECE-444A-B741-02A48331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E96-20A8-4F51-BA62-20289333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A7C-93DB-4A1A-8F7B-BCE1461B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41B2-1A62-4391-9518-A4140262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2FD7-9538-4232-A611-41842007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573E-1DE0-407E-A791-82201956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C79C-4829-4193-AE46-77DFB7B2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79D2-6CD5-4CF9-82F6-3A27AE60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B33C-D8C2-44CA-AA22-D9011B3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3C8C-7EE0-4CA5-8B1B-EE96FC8F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FC8-52E4-4796-98D5-2EE6E017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4361-9AC5-4CB4-B8DD-AACAFA8F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0C7B-F2BF-49AA-BAD6-0C050670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4387-278D-43A7-8777-82BCE13A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0727-C86F-4108-9B3D-9133252D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A73E-F61E-4610-A5D9-9D67D2E3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9DD-0027-400F-9D88-76FC9E00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A6D-E3E0-47AC-BF7F-6E25E44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DA4-DA30-4849-847A-0C0C43A1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5CA-3AC1-4413-8B9D-2974A710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D17-C07D-4A4A-9C6F-9FE1C108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FF4-028F-4FDF-8030-ECF9470C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004-69A4-448C-9142-582A1BB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B082-7AA7-47B9-A2A1-594FC31CCD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9699-CADD-436D-A109-3EAE332633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3517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«Час занимательного русского языка»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344240"/>
            <a:ext cx="92584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cc"/>
                </a:solidFill>
                <a:uFillTx/>
                <a:latin typeface="Comic Sans MS"/>
              </a:rPr>
              <a:t>КОНКУРС 6 «СИНТАКСИЧЕСКИЙ»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791320" y="34290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66760" y="2286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. Из предложения «Стеной стоят желтые колосья пшеницы» возьмит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предел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 Прибавьт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длежаще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из предложения «Листья падают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Из предложения «Пушкин очень любил осень» возьмит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дополн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 Добавьт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бстоятельство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 предложения «Осень щедро одаривает леса краской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. Добавьт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казуемо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из предложения «Весна выстлала на лугу разноцветный ковер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. Из предложения «Куда ведете нас, дороги?» возьмит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уществительно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которое яв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бращением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2362320" y="542916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Желтыми листьями осень щедро выстлала дорог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76320" y="1325160"/>
            <a:ext cx="6553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cc"/>
                </a:solidFill>
                <a:uFillTx/>
                <a:latin typeface="Comic Sans MS"/>
              </a:rPr>
              <a:t>КОНКУРС 7 – </a:t>
            </a:r>
            <a:br>
              <a:rPr sz="6000"/>
            </a:br>
            <a:r>
              <a:rPr b="1" lang="ru-RU" sz="6000" spc="-1" strike="noStrike" u="sng">
                <a:solidFill>
                  <a:srgbClr val="0000cc"/>
                </a:solidFill>
                <a:uFillTx/>
                <a:latin typeface="Comic Sans MS"/>
              </a:rPr>
              <a:t>«ВЕСЕЛАЯ ГРАММАТИКА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8" descr="str01-2"/>
          <p:cNvPicPr/>
          <p:nvPr/>
        </p:nvPicPr>
        <p:blipFill>
          <a:blip r:embed="rId1"/>
          <a:stretch/>
        </p:blipFill>
        <p:spPr>
          <a:xfrm>
            <a:off x="6477120" y="1185840"/>
            <a:ext cx="13744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52280" y="3065400"/>
          <a:ext cx="8458200" cy="2816280"/>
        </p:xfrm>
        <a:graphic>
          <a:graphicData uri="http://schemas.openxmlformats.org/drawingml/2006/table">
            <a:tbl>
              <a:tblPr/>
              <a:tblGrid>
                <a:gridCol w="3416400"/>
                <a:gridCol w="3060720"/>
                <a:gridCol w="1981080"/>
              </a:tblGrid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существительны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прилагательны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глаго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44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есель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спис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изн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елил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аснот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есёлый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списной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и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ели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асне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еселитьс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списатьс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изнен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ел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ас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  <p:pic>
        <p:nvPicPr>
          <p:cNvPr id="186" name="127 Песенка о волшебниках.mp3" descr=""/>
          <p:cNvPicPr/>
          <p:nvPr/>
        </p:nvPicPr>
        <p:blipFill>
          <a:blip r:embed="rId2"/>
          <a:stretch/>
        </p:blipFill>
        <p:spPr>
          <a:xfrm>
            <a:off x="655488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omic Sans MS"/>
              </a:rPr>
              <a:t>КОНКУРС 8 - «КОНКУРС КАПИТАНОВ» - «РЕБУСЫ»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29"/>
          <p:cNvPicPr/>
          <p:nvPr/>
        </p:nvPicPr>
        <p:blipFill>
          <a:blip r:embed="rId1"/>
          <a:stretch/>
        </p:blipFill>
        <p:spPr>
          <a:xfrm>
            <a:off x="6248520" y="4572000"/>
            <a:ext cx="24476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43000" y="7632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000000"/>
                </a:solidFill>
                <a:uFillTx/>
                <a:latin typeface="Comic Sans MS"/>
              </a:rPr>
              <a:t>_</a:t>
            </a:r>
            <a:r>
              <a:rPr b="1" lang="ru-RU" sz="15000" spc="-1" strike="noStrike" u="sng">
                <a:solidFill>
                  <a:srgbClr val="000000"/>
                </a:solidFill>
                <a:uFillTx/>
                <a:latin typeface="Comic Sans MS"/>
              </a:rPr>
              <a:t>СЬ_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Comic Sans MS"/>
              </a:rPr>
              <a:t>ПИ    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подпись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543800" y="51055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680" y="32400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 u="sng">
                <a:solidFill>
                  <a:srgbClr val="000000"/>
                </a:solidFill>
                <a:uFillTx/>
                <a:latin typeface="Comic Sans MS"/>
              </a:rPr>
              <a:t>_</a:t>
            </a:r>
            <a:r>
              <a:rPr b="1" lang="ru-RU" sz="15000" spc="-1" strike="noStrike">
                <a:solidFill>
                  <a:srgbClr val="000000"/>
                </a:solidFill>
                <a:latin typeface="Comic Sans MS"/>
              </a:rPr>
              <a:t>_</a:t>
            </a:r>
            <a:r>
              <a:rPr b="1" lang="ru-RU" sz="15000" spc="-1" strike="noStrike" u="sng">
                <a:solidFill>
                  <a:srgbClr val="000000"/>
                </a:solidFill>
                <a:uFillTx/>
                <a:latin typeface="Comic Sans MS"/>
              </a:rPr>
              <a:t>Е</a:t>
            </a:r>
            <a:r>
              <a:rPr b="1" lang="ru-RU" sz="150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Comic Sans MS"/>
              </a:rPr>
              <a:t>ЗД     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подъез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7543800" y="51055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676160" y="4320"/>
            <a:ext cx="64767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Comic Sans MS"/>
              </a:rPr>
              <a:t>_</a:t>
            </a:r>
            <a:r>
              <a:rPr b="1" lang="ru-RU" sz="15000" spc="-1" strike="noStrike" u="sng">
                <a:solidFill>
                  <a:srgbClr val="000000"/>
                </a:solidFill>
                <a:uFillTx/>
                <a:latin typeface="Comic Sans MS"/>
              </a:rPr>
              <a:t>КО_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000000"/>
                </a:solidFill>
                <a:latin typeface="Comic Sans MS"/>
              </a:rPr>
              <a:t>ВА     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подко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543800" y="51055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Comic Sans MS"/>
              </a:rPr>
              <a:t>КОНКУРС 9 - «СОБЕРИ ТЕКСТ»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book20"/>
          <p:cNvPicPr/>
          <p:nvPr/>
        </p:nvPicPr>
        <p:blipFill>
          <a:blip r:embed="rId1"/>
          <a:stretch/>
        </p:blipFill>
        <p:spPr>
          <a:xfrm>
            <a:off x="4800600" y="4267080"/>
            <a:ext cx="4160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190440" y="380880"/>
            <a:ext cx="8763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     Змеиный хвост заспорил с головой о том, кому ходить вперед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     Голова сказала: «Ты не можешь ходить спереди, у тебя нет глаз и ушей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     Хвост сказал: «А зато во мне сила, я тебя двигаю, если захочу да обернусь вокруг дерева, ты с места не тронешься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     Голова сказала: «Разойдемся!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     И хвост оторвался от головы и пополз впере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      Но только он отполз от головы, попал в трещину и провалил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858000" y="4711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2"/>
          <p:cNvSpPr/>
          <p:nvPr/>
        </p:nvSpPr>
        <p:spPr>
          <a:xfrm>
            <a:off x="228600" y="72216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Comic Sans MS"/>
              </a:rPr>
              <a:t>Лингвистическая шутка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Comic Sans MS"/>
              </a:rPr>
              <a:t>«Несуразные вещи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6870600" cy="38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зык – это история народ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зык – это путь цивилизации и культуры… Поэтому-то изучение и сбережение русского языка является не праздным занятием от нечего делать, но насущной необходимостью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А. И. Куприн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3" descr="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7"/>
          <p:cNvSpPr txBox="1"/>
          <p:nvPr/>
        </p:nvSpPr>
        <p:spPr>
          <a:xfrm>
            <a:off x="295200" y="4114800"/>
            <a:ext cx="8382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дравляем победителей!!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частие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13" descr="image_igri_pozdrav"/>
          <p:cNvPicPr/>
          <p:nvPr/>
        </p:nvPicPr>
        <p:blipFill>
          <a:blip r:embed="rId1"/>
          <a:stretch/>
        </p:blipFill>
        <p:spPr>
          <a:xfrm>
            <a:off x="2819520" y="53352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3" descr=""/>
          <p:cNvPicPr/>
          <p:nvPr/>
        </p:nvPicPr>
        <p:blipFill>
          <a:blip r:embed="rId1"/>
          <a:srcRect l="9325" t="43614" r="7624" b="3370"/>
          <a:stretch/>
        </p:blipFill>
        <p:spPr>
          <a:xfrm>
            <a:off x="228600" y="1066680"/>
            <a:ext cx="78962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3" descr="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13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Comic Sans MS"/>
              </a:rPr>
              <a:t>КОНКУРС 1 – РАЗМИНК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31100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600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3581280"/>
            <a:ext cx="8610840" cy="289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Comic Sans MS"/>
              </a:rPr>
              <a:t>КОНКУРС 2 - СОБЕРИ СЛОВА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1981440" cy="2390760"/>
          </a:xfrm>
          <a:prstGeom prst="rect">
            <a:avLst/>
          </a:prstGeom>
          <a:ln w="0">
            <a:noFill/>
          </a:ln>
        </p:spPr>
      </p:pic>
      <p:pic>
        <p:nvPicPr>
          <p:cNvPr id="157" name="062 Когда мои друзья со мной" descr=""/>
          <p:cNvPicPr/>
          <p:nvPr/>
        </p:nvPicPr>
        <p:blipFill>
          <a:blip r:embed="rId2"/>
          <a:stretch/>
        </p:blipFill>
        <p:spPr>
          <a:xfrm>
            <a:off x="3657600" y="5410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-360" y="1522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1 коман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Приставка в слове ПОДБЕЖАЛ, а корень в слове СНЕЖИНКА, суффикс –ЛЕСНИК, ОКОНЧАНИЕ – УЧЕНИК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Корень в слове – МОЛОДОЙ, суффикс – ПАЛЬЦЫ, окончание – ТРАВ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2 команд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Приставка в слове ЗАХОД, корень - ГОРОДА, суффикс – СТОРОНКА, окончание – ЗИ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 algn="just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Корень в слове – ДВОРНИК, суффикс – СТОЛОВАЯ, окончание – ЗЕЛЁНЫ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76680" y="236196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Comic Sans MS"/>
              </a:rPr>
              <a:t>КОНКУРС 3 -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СЛОВООБРАЗОВАТЕЛЬНЫ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2835000" cy="26985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1"/>
          <p:cNvSpPr/>
          <p:nvPr/>
        </p:nvSpPr>
        <p:spPr>
          <a:xfrm>
            <a:off x="1400040" y="4238640"/>
            <a:ext cx="436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«говор»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069 В траве сидел кузнечик" descr=""/>
          <p:cNvPicPr/>
          <p:nvPr/>
        </p:nvPicPr>
        <p:blipFill>
          <a:blip r:embed="rId2"/>
          <a:stretch/>
        </p:blipFill>
        <p:spPr>
          <a:xfrm>
            <a:off x="2533680" y="5807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 rot="1862400">
            <a:off x="4959360" y="3855960"/>
            <a:ext cx="3379680" cy="33800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1109880" y="1447920"/>
            <a:ext cx="666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omic Sans MS"/>
              </a:rPr>
              <a:t>КОНКУРС 4 –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Comic Sans MS"/>
              </a:rPr>
              <a:t>НАЙДИ ПАРЫ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097 Точка, точка, запятая" descr=""/>
          <p:cNvPicPr/>
          <p:nvPr/>
        </p:nvPicPr>
        <p:blipFill>
          <a:blip r:embed="rId2"/>
          <a:stretch/>
        </p:blipFill>
        <p:spPr>
          <a:xfrm>
            <a:off x="3352680" y="4935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66760" y="304920"/>
          <a:ext cx="8610480" cy="570708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932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лфавит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гонь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алун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истый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нница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ыгать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росать </a:t>
                      </a:r>
                      <a:br>
                        <a:rPr sz="4400"/>
                      </a:b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расный                                                                                                                            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ккуратный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лый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какать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збука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амя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зорник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валерия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ида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cxnSp>
        <p:nvCxnSpPr>
          <p:cNvPr id="167" name="Прямая со стрелкой 8"/>
          <p:cNvCxnSpPr/>
          <p:nvPr/>
        </p:nvCxnSpPr>
        <p:spPr>
          <a:xfrm>
            <a:off x="2895120" y="609120"/>
            <a:ext cx="4039560" cy="2210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Прямая со стрелкой 10"/>
          <p:cNvCxnSpPr/>
          <p:nvPr/>
        </p:nvCxnSpPr>
        <p:spPr>
          <a:xfrm>
            <a:off x="2209680" y="1371240"/>
            <a:ext cx="4725000" cy="2057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Прямая со стрелкой 12"/>
          <p:cNvCxnSpPr/>
          <p:nvPr/>
        </p:nvCxnSpPr>
        <p:spPr>
          <a:xfrm>
            <a:off x="2209680" y="2133360"/>
            <a:ext cx="4268160" cy="1981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Прямая со стрелкой 14"/>
          <p:cNvCxnSpPr/>
          <p:nvPr/>
        </p:nvCxnSpPr>
        <p:spPr>
          <a:xfrm flipV="1">
            <a:off x="2514600" y="608760"/>
            <a:ext cx="3124800" cy="2210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Прямая со стрелкой 16"/>
          <p:cNvCxnSpPr/>
          <p:nvPr/>
        </p:nvCxnSpPr>
        <p:spPr>
          <a:xfrm>
            <a:off x="2895120" y="3505320"/>
            <a:ext cx="2972520" cy="1372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Прямая со стрелкой 18"/>
          <p:cNvCxnSpPr/>
          <p:nvPr/>
        </p:nvCxnSpPr>
        <p:spPr>
          <a:xfrm flipV="1">
            <a:off x="2895480" y="2133360"/>
            <a:ext cx="3734640" cy="2057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Прямая со стрелкой 20"/>
          <p:cNvCxnSpPr/>
          <p:nvPr/>
        </p:nvCxnSpPr>
        <p:spPr>
          <a:xfrm>
            <a:off x="2514240" y="4876920"/>
            <a:ext cx="4420440" cy="762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Прямая со стрелкой 22"/>
          <p:cNvCxnSpPr/>
          <p:nvPr/>
        </p:nvCxnSpPr>
        <p:spPr>
          <a:xfrm flipV="1">
            <a:off x="2895480" y="1370880"/>
            <a:ext cx="4191840" cy="42678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90676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0000cc"/>
                </a:solidFill>
                <a:uFillTx/>
                <a:latin typeface="Comic Sans MS"/>
              </a:rPr>
              <a:t>КОНКУРС 5 - «СЛОВА ЗМЕЙКИ»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496960" cy="30970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"/>
          <p:cNvSpPr/>
          <p:nvPr/>
        </p:nvSpPr>
        <p:spPr>
          <a:xfrm>
            <a:off x="627120" y="3995640"/>
            <a:ext cx="51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КОМ - СОМ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002 В каждом маленьком ребенке.mp3" descr=""/>
          <p:cNvPicPr/>
          <p:nvPr/>
        </p:nvPicPr>
        <p:blipFill>
          <a:blip r:embed="rId2"/>
          <a:stretch/>
        </p:blipFill>
        <p:spPr>
          <a:xfrm>
            <a:off x="2913120" y="5702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Никишина</cp:lastModifiedBy>
  <dcterms:modified xsi:type="dcterms:W3CDTF">2019-11-25T22:51:1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